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697-6BCF-4B39-B83A-5C6E4A71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0A2-31BC-4A29-9387-44F82F71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95B-8EB5-4CB1-82E2-571F356D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410-B84B-40A0-8763-518AF4BD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83D-222E-4E7C-BCB3-C6BC783E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C89-F44A-485B-A456-AE9AC3C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13E-6B00-47C7-88DC-52B8A0C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F00-B376-4CA6-81B3-F2869FF8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631-5580-485E-B6EC-6B41890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8FB-6369-4821-A188-81FA8D6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520-2C03-4014-8EBA-5B093F8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2F0-3846-48D4-BDBD-DBF45C4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E0D-E09B-4D11-81EF-5466F825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1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aring and Ordering Whole Numb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1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62640"/>
              <a:ext cx="7772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aring and Ordering               Whole Numb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846600" y="23511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52388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rder numbers, you can compare them using place value and then write them in order from least to greatest. You can also graph the numbers on a number line. As you read the numbers from left to right, they will be ordered from least to grea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2120" y="1447920"/>
            <a:ext cx="7854480" cy="4372200"/>
            <a:chOff x="762120" y="1447920"/>
            <a:chExt cx="7854480" cy="4372200"/>
          </a:xfrm>
        </p:grpSpPr>
        <p:sp>
          <p:nvSpPr>
            <p:cNvPr id="97" name=""/>
            <p:cNvSpPr/>
            <p:nvPr/>
          </p:nvSpPr>
          <p:spPr>
            <a:xfrm>
              <a:off x="768240" y="1905120"/>
              <a:ext cx="7848360" cy="3915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&lt; me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s less than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 &lt; 5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20 &lt; 5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&gt; mea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s greater than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7 &gt; 9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12 &gt; 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144792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8049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a Number Line  to Order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numbers on a number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675 is between 600 and 7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1,044 is between 1,000 and 1,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are ordered when you read the number line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497 is between 400 and 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4324320"/>
            <a:ext cx="7391520" cy="596880"/>
            <a:chOff x="838080" y="4324320"/>
            <a:chExt cx="7391520" cy="596880"/>
          </a:xfrm>
        </p:grpSpPr>
        <p:grpSp>
          <p:nvGrpSpPr>
            <p:cNvPr id="106" name=""/>
            <p:cNvGrpSpPr/>
            <p:nvPr/>
          </p:nvGrpSpPr>
          <p:grpSpPr>
            <a:xfrm>
              <a:off x="838080" y="4324320"/>
              <a:ext cx="7391520" cy="304920"/>
              <a:chOff x="838080" y="4324320"/>
              <a:chExt cx="7391520" cy="304920"/>
            </a:xfrm>
          </p:grpSpPr>
          <p:sp>
            <p:nvSpPr>
              <p:cNvPr id="107" name=""/>
              <p:cNvSpPr/>
              <p:nvPr/>
            </p:nvSpPr>
            <p:spPr>
              <a:xfrm>
                <a:off x="838080" y="4476600"/>
                <a:ext cx="739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79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487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623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578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02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90720" y="45529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                         600                        800                    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8288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,0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in order from least to greatest are 497, 675, and 1,0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5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:    675; 1,044; 4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33720" y="441972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40532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0064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913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86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numbers on a number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743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732 is between 700 and 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923 is between 900 and 1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are ordered when you read the number line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502 is between 500 and 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8080" y="4324320"/>
            <a:ext cx="7391520" cy="596880"/>
            <a:chOff x="838080" y="4324320"/>
            <a:chExt cx="7391520" cy="596880"/>
          </a:xfrm>
        </p:grpSpPr>
        <p:grpSp>
          <p:nvGrpSpPr>
            <p:cNvPr id="132" name=""/>
            <p:cNvGrpSpPr/>
            <p:nvPr/>
          </p:nvGrpSpPr>
          <p:grpSpPr>
            <a:xfrm>
              <a:off x="838080" y="4324320"/>
              <a:ext cx="7391520" cy="304920"/>
              <a:chOff x="838080" y="4324320"/>
              <a:chExt cx="7391520" cy="304920"/>
            </a:xfrm>
          </p:grpSpPr>
          <p:sp>
            <p:nvSpPr>
              <p:cNvPr id="133" name=""/>
              <p:cNvSpPr/>
              <p:nvPr/>
            </p:nvSpPr>
            <p:spPr>
              <a:xfrm>
                <a:off x="838080" y="4476600"/>
                <a:ext cx="739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34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487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623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526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578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990720" y="45529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                         600                        800                    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57400" y="39625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96252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in order from least to greatest are 502, 732, and 9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446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:    732; 923; 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40532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39092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5080" y="439092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9133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779120"/>
            <a:ext cx="792504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6720" indent="-396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98, 469, 97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41, 914, 4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26, 847, 2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area of Panama is 78,200 square kilometers, and the area of Lithuania is 65,200 square kilometers. Which country is smaller in a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4754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1, 726, 8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48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thu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78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ing and Ordering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37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91, 914, 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18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69, 698, 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048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are. Use &lt;, &gt;, or =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    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7  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6    23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   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1    1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7 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8920" y="269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22480" y="2681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8920" y="311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22480" y="31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280" y="35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2480" y="3562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9120" y="285768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1760" y="328608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1760" y="372420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9800" y="286704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9800" y="327672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72420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600200"/>
            <a:ext cx="7467840" cy="3429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tract your age from your age multiplied by 100. Divide the result by 11, and then divide the quotient by 9. What number do you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191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38120" y="2438280"/>
            <a:ext cx="8305920" cy="1524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compare and order whole numbers using place value or a number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4648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,202,516,1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648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ande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,000,000,000 + 200,000,000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000,000 + 500,000 + 10,000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,000 + 100 + 30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416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ven billion, two hundred two mill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hundred sixteen thousa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416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hundred thirty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83160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Place Value to Compare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lize’s 2000 population was 249,183 people. Iceland’s 2000 population was 276,365 people. Which country had more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9,18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6,36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86252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 thousand is less than 70 thous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9,183 is less than 276,3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62520" y="2895480"/>
            <a:ext cx="4876560" cy="1633320"/>
            <a:chOff x="3962520" y="2895480"/>
            <a:chExt cx="4876560" cy="1633320"/>
          </a:xfrm>
        </p:grpSpPr>
        <p:sp>
          <p:nvSpPr>
            <p:cNvPr id="82" name=""/>
            <p:cNvSpPr/>
            <p:nvPr/>
          </p:nvSpPr>
          <p:spPr>
            <a:xfrm>
              <a:off x="3962520" y="2971800"/>
              <a:ext cx="487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tart at the left and compare digits in the same place value position. Look for the first place where the values are differ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440" y="2895480"/>
              <a:ext cx="25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5943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eland had mor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61920" y="3267000"/>
            <a:ext cx="2286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83160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2000, the population of San Diego, California was 1,223,400 people. In 2000, the population of Dallas, Texas was 1,188,5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ople. Which city had more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18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223,400   San 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7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188,580   D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7242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 thousand is greater than 100 thous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223,400 is greater than 1,188,5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62520" y="2806560"/>
            <a:ext cx="4876560" cy="1633320"/>
            <a:chOff x="3962520" y="2806560"/>
            <a:chExt cx="4876560" cy="1633320"/>
          </a:xfrm>
        </p:grpSpPr>
        <p:sp>
          <p:nvSpPr>
            <p:cNvPr id="91" name=""/>
            <p:cNvSpPr/>
            <p:nvPr/>
          </p:nvSpPr>
          <p:spPr>
            <a:xfrm>
              <a:off x="3962520" y="2882880"/>
              <a:ext cx="487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tart at the left and compare digits in the same place value position. Look for the first place where the values are differ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440" y="2806560"/>
              <a:ext cx="25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85800" y="58053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 Diego had mor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78080"/>
            <a:ext cx="2286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1:00:50Z</dcterms:created>
  <dc:creator> </dc:creator>
  <dc:description/>
  <dc:language>en-US</dc:language>
  <cp:lastModifiedBy>stevenh</cp:lastModifiedBy>
  <dcterms:modified xsi:type="dcterms:W3CDTF">2006-04-18T21:09:23Z</dcterms:modified>
  <cp:revision>19</cp:revision>
  <dc:subject/>
  <dc:title>Slide 1</dc:title>
</cp:coreProperties>
</file>